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2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092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2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092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561600"/>
            <a:ext cx="6781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2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092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2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092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143000" y="561600"/>
            <a:ext cx="6781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2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2092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12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2092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561600"/>
            <a:ext cx="6781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4"/>
          <p:cNvSpPr/>
          <p:nvPr/>
        </p:nvSpPr>
        <p:spPr>
          <a:xfrm>
            <a:off x="-9360" y="525600"/>
            <a:ext cx="8180280" cy="63324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33200" y="395280"/>
            <a:ext cx="838080" cy="837720"/>
            <a:chOff x="133200" y="395280"/>
            <a:chExt cx="838080" cy="837720"/>
          </a:xfrm>
        </p:grpSpPr>
        <p:sp>
          <p:nvSpPr>
            <p:cNvPr id="2" name="AutoShape 39"/>
            <p:cNvSpPr/>
            <p:nvPr/>
          </p:nvSpPr>
          <p:spPr>
            <a:xfrm>
              <a:off x="133200" y="59436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AutoShape 40"/>
            <p:cNvSpPr/>
            <p:nvPr/>
          </p:nvSpPr>
          <p:spPr>
            <a:xfrm>
              <a:off x="497880" y="3952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AutoShape 41"/>
            <p:cNvSpPr/>
            <p:nvPr/>
          </p:nvSpPr>
          <p:spPr>
            <a:xfrm>
              <a:off x="497880" y="81396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269dd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4c59d2"/>
              </a:buClr>
              <a:buFont typeface="Wingdings" charset="2"/>
              <a:buChar char="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49"/>
              </a:spcBef>
              <a:buClr>
                <a:srgbClr val="269dd8"/>
              </a:buClr>
              <a:buFont typeface="Wingdings" charset="2"/>
              <a:buChar char="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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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8153280" y="528480"/>
            <a:ext cx="990720" cy="6329160"/>
            <a:chOff x="8153280" y="528480"/>
            <a:chExt cx="990720" cy="6329160"/>
          </a:xfrm>
        </p:grpSpPr>
        <p:sp>
          <p:nvSpPr>
            <p:cNvPr id="8" name="Rectangle 36"/>
            <p:cNvSpPr/>
            <p:nvPr/>
          </p:nvSpPr>
          <p:spPr>
            <a:xfrm>
              <a:off x="8155800" y="744840"/>
              <a:ext cx="987840" cy="6112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Rectangle 37"/>
            <p:cNvSpPr/>
            <p:nvPr/>
          </p:nvSpPr>
          <p:spPr>
            <a:xfrm>
              <a:off x="8153280" y="528480"/>
              <a:ext cx="990720" cy="61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0" name="图片 13" descr="公会LOGO（左logo右文字）.png"/>
          <p:cNvPicPr/>
          <p:nvPr/>
        </p:nvPicPr>
        <p:blipFill>
          <a:blip r:embed="rId2"/>
          <a:stretch/>
        </p:blipFill>
        <p:spPr>
          <a:xfrm>
            <a:off x="6804000" y="117360"/>
            <a:ext cx="2200320" cy="35892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3" descr="公会LOGO（左logo右文字）.png"/>
          <p:cNvPicPr/>
          <p:nvPr/>
        </p:nvPicPr>
        <p:blipFill>
          <a:blip r:embed="rId3"/>
          <a:srcRect l="0" t="0" r="79331" b="0"/>
          <a:stretch/>
        </p:blipFill>
        <p:spPr>
          <a:xfrm>
            <a:off x="7588080" y="5518080"/>
            <a:ext cx="1305000" cy="10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4c59d2"/>
              </a:buClr>
              <a:buFont typeface="Wingdings" charset="2"/>
              <a:buChar char="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49"/>
              </a:spcBef>
              <a:buClr>
                <a:srgbClr val="269dd8"/>
              </a:buClr>
              <a:buFont typeface="Wingdings" charset="2"/>
              <a:buChar char="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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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34"/>
          <p:cNvSpPr/>
          <p:nvPr/>
        </p:nvSpPr>
        <p:spPr>
          <a:xfrm>
            <a:off x="-9360" y="525600"/>
            <a:ext cx="8180280" cy="63324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133200" y="395280"/>
            <a:ext cx="838080" cy="837720"/>
            <a:chOff x="133200" y="395280"/>
            <a:chExt cx="838080" cy="837720"/>
          </a:xfrm>
        </p:grpSpPr>
        <p:sp>
          <p:nvSpPr>
            <p:cNvPr id="88" name="AutoShape 39"/>
            <p:cNvSpPr/>
            <p:nvPr/>
          </p:nvSpPr>
          <p:spPr>
            <a:xfrm>
              <a:off x="133200" y="59436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AutoShape 40"/>
            <p:cNvSpPr/>
            <p:nvPr/>
          </p:nvSpPr>
          <p:spPr>
            <a:xfrm>
              <a:off x="497880" y="3952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AutoShape 41"/>
            <p:cNvSpPr/>
            <p:nvPr/>
          </p:nvSpPr>
          <p:spPr>
            <a:xfrm>
              <a:off x="497880" y="81396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269dd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8153280" y="528480"/>
            <a:ext cx="990720" cy="6329160"/>
            <a:chOff x="8153280" y="528480"/>
            <a:chExt cx="990720" cy="6329160"/>
          </a:xfrm>
        </p:grpSpPr>
        <p:sp>
          <p:nvSpPr>
            <p:cNvPr id="92" name="Rectangle 36"/>
            <p:cNvSpPr/>
            <p:nvPr/>
          </p:nvSpPr>
          <p:spPr>
            <a:xfrm>
              <a:off x="8155800" y="744840"/>
              <a:ext cx="987840" cy="6112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Rectangle 37"/>
            <p:cNvSpPr/>
            <p:nvPr/>
          </p:nvSpPr>
          <p:spPr>
            <a:xfrm>
              <a:off x="8153280" y="528480"/>
              <a:ext cx="990720" cy="61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4" name="图片 13" descr="公会LOGO（左logo右文字）.png"/>
          <p:cNvPicPr/>
          <p:nvPr/>
        </p:nvPicPr>
        <p:blipFill>
          <a:blip r:embed="rId2"/>
          <a:stretch/>
        </p:blipFill>
        <p:spPr>
          <a:xfrm>
            <a:off x="6804000" y="117360"/>
            <a:ext cx="2200320" cy="358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3" descr="公会LOGO（左logo右文字）.png"/>
          <p:cNvPicPr/>
          <p:nvPr/>
        </p:nvPicPr>
        <p:blipFill>
          <a:blip r:embed="rId3"/>
          <a:srcRect l="0" t="0" r="79331" b="0"/>
          <a:stretch/>
        </p:blipFill>
        <p:spPr>
          <a:xfrm>
            <a:off x="7588080" y="5518080"/>
            <a:ext cx="1305000" cy="1032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4c59d2"/>
              </a:buClr>
              <a:buFont typeface="Wingdings" charset="2"/>
              <a:buChar char="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49"/>
              </a:spcBef>
              <a:buClr>
                <a:srgbClr val="269dd8"/>
              </a:buClr>
              <a:buFont typeface="Wingdings" charset="2"/>
              <a:buChar char="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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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9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0" y="1884240"/>
            <a:ext cx="9144000" cy="24987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28440" y="1714680"/>
            <a:ext cx="7643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上海绿色建筑贡献奖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项目名称：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申报单位：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6083280" y="260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黑体"/>
                <a:ea typeface="黑体"/>
              </a:rPr>
              <a:t>自律  维权  协调  服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252360" y="620640"/>
            <a:ext cx="1428840" cy="6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I:\绿建协会网站\ppt\greenBg.png"/>
          <p:cNvPicPr/>
          <p:nvPr/>
        </p:nvPicPr>
        <p:blipFill>
          <a:blip r:embed="rId2"/>
          <a:stretch/>
        </p:blipFill>
        <p:spPr>
          <a:xfrm>
            <a:off x="-95400" y="0"/>
            <a:ext cx="9237960" cy="78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I:\绿建协会网站\ppt\greenBg.png"/>
          <p:cNvPicPr/>
          <p:nvPr/>
        </p:nvPicPr>
        <p:blipFill>
          <a:blip r:embed="rId3"/>
          <a:stretch/>
        </p:blipFill>
        <p:spPr>
          <a:xfrm>
            <a:off x="-28440" y="5643720"/>
            <a:ext cx="9315360" cy="1214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5869080" y="1341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绿建协会网站\ppt\greenBg.png"/>
          <p:cNvPicPr/>
          <p:nvPr/>
        </p:nvPicPr>
        <p:blipFill>
          <a:blip r:embed="rId1"/>
          <a:stretch/>
        </p:blipFill>
        <p:spPr>
          <a:xfrm>
            <a:off x="-71280" y="5643720"/>
            <a:ext cx="9316800" cy="1214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1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海绿色建筑贡献奖（项目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181080" y="117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2" descr="I:\绿建协会网站\ppt\GBN logo.png"/>
          <p:cNvPicPr/>
          <p:nvPr/>
        </p:nvPicPr>
        <p:blipFill>
          <a:blip r:embed="rId2"/>
          <a:stretch/>
        </p:blipFill>
        <p:spPr>
          <a:xfrm>
            <a:off x="108000" y="46080"/>
            <a:ext cx="1008000" cy="455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179280" y="1844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绿标星级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179280" y="135720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目名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179280" y="283068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项目简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79280" y="235728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申报单位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700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建筑类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5580000" y="1852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是否竣工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14200" y="3286080"/>
            <a:ext cx="864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华文中宋"/>
                <a:ea typeface="华文中宋"/>
              </a:rPr>
              <a:t> </a:t>
            </a:r>
            <a:r>
              <a:rPr b="0" lang="zh-CN" sz="1800" spc="-1" strike="noStrike">
                <a:solidFill>
                  <a:srgbClr val="002060"/>
                </a:solidFill>
                <a:latin typeface="华文中宋"/>
                <a:ea typeface="华文中宋"/>
              </a:rPr>
              <a:t>（简介要求</a:t>
            </a:r>
            <a:r>
              <a:rPr b="0" lang="en-US" sz="1800" spc="-1" strike="noStrike">
                <a:solidFill>
                  <a:srgbClr val="002060"/>
                </a:solidFill>
                <a:latin typeface="华文中宋"/>
                <a:ea typeface="华文中宋"/>
              </a:rPr>
              <a:t>500</a:t>
            </a:r>
            <a:r>
              <a:rPr b="0" lang="zh-CN" sz="1800" spc="-1" strike="noStrike">
                <a:solidFill>
                  <a:srgbClr val="002060"/>
                </a:solidFill>
                <a:latin typeface="华文中宋"/>
                <a:ea typeface="华文中宋"/>
              </a:rPr>
              <a:t>字以内。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81080" y="117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108000" y="46080"/>
            <a:ext cx="1008000" cy="4554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1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海绿色建筑贡献奖（项目）：填写项目名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285840" y="1857240"/>
            <a:ext cx="864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此页粘贴项目效果图一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I:\绿建协会网站\ppt\greenBg.png"/>
          <p:cNvPicPr/>
          <p:nvPr/>
        </p:nvPicPr>
        <p:blipFill>
          <a:blip r:embed="rId1"/>
          <a:stretch/>
        </p:blipFill>
        <p:spPr>
          <a:xfrm>
            <a:off x="-71280" y="5643720"/>
            <a:ext cx="9316800" cy="1214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1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海绿色建筑贡献奖（项目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181080" y="117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2" descr="I:\绿建协会网站\ppt\GBN logo.png"/>
          <p:cNvPicPr/>
          <p:nvPr/>
        </p:nvPicPr>
        <p:blipFill>
          <a:blip r:embed="rId2"/>
          <a:stretch/>
        </p:blipFill>
        <p:spPr>
          <a:xfrm>
            <a:off x="108000" y="46080"/>
            <a:ext cx="1008000" cy="4554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0"/>
          <p:cNvSpPr/>
          <p:nvPr/>
        </p:nvSpPr>
        <p:spPr>
          <a:xfrm>
            <a:off x="179280" y="1413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  </a:t>
            </a:r>
            <a:r>
              <a:rPr b="1" lang="en-US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1.</a:t>
            </a: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主要技术亮点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915840" y="1812960"/>
            <a:ext cx="725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57120" y="2428920"/>
            <a:ext cx="814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2.</a:t>
            </a: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相关荣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357120" y="3714840"/>
            <a:ext cx="8143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3.</a:t>
            </a:r>
            <a:r>
              <a:rPr b="1" lang="zh-CN" sz="2000" spc="-1" strike="noStrike">
                <a:solidFill>
                  <a:srgbClr val="001933"/>
                </a:solidFill>
                <a:latin typeface="华文中宋"/>
                <a:ea typeface="华文中宋"/>
              </a:rPr>
              <a:t>申报奖励理由：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可从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社会效益和影响、可操作性和示范性等方面论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9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1884240"/>
            <a:ext cx="9144000" cy="24987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99720" y="2357280"/>
            <a:ext cx="501804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5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隶书"/>
              </a:rPr>
              <a:t>谢 谢！</a:t>
            </a:r>
            <a:endParaRPr b="1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6083280" y="260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黑体"/>
                <a:ea typeface="黑体"/>
              </a:rPr>
              <a:t>自律  维权  协调  服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252360" y="620640"/>
            <a:ext cx="1428840" cy="646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I:\绿建协会网站\ppt\greenBg.png"/>
          <p:cNvPicPr/>
          <p:nvPr/>
        </p:nvPicPr>
        <p:blipFill>
          <a:blip r:embed="rId2"/>
          <a:stretch/>
        </p:blipFill>
        <p:spPr>
          <a:xfrm>
            <a:off x="-95400" y="0"/>
            <a:ext cx="9237960" cy="785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I:\绿建协会网站\ppt\greenBg.png"/>
          <p:cNvPicPr/>
          <p:nvPr/>
        </p:nvPicPr>
        <p:blipFill>
          <a:blip r:embed="rId3"/>
          <a:stretch/>
        </p:blipFill>
        <p:spPr>
          <a:xfrm>
            <a:off x="-28440" y="5643720"/>
            <a:ext cx="9315360" cy="1214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5940360" y="141300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21:39:00Z</dcterms:created>
  <dc:creator>Administrator</dc:creator>
  <dc:description/>
  <cp:keywords/>
  <dc:language>en-US</dc:language>
  <cp:lastModifiedBy>Windows 用户</cp:lastModifiedBy>
  <dcterms:modified xsi:type="dcterms:W3CDTF">2015-07-01T08:31:19Z</dcterms:modified>
  <cp:revision>3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